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8D3-4963-4D2E-BE8C-395E4C00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846-1561-4E57-8689-10D0F073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268-C286-4CE9-90D7-F9FAB2D9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832-7DA2-47A9-A0CA-18F3519C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2FF-673A-41A2-A6D4-5EEEAF4B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C71-F7B6-4D9D-83E5-D68AFAF2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FC9-4592-46FD-B3FA-2C94CAAF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935-0D20-47F4-8356-025199D6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DFA-4381-4383-9F6F-0E2A77FE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DBF-3123-4B3E-85F0-63AEFDC3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BB2-5008-44FF-B6F8-EAF04E3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4C4-ADA9-4494-BCB8-76A6CA4D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AC0F-900E-4DBF-8A12-D15E9CBD0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eb.mit.edu/invent/iow/burbank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15200" y="5486400"/>
            <a:ext cx="1828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7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7 comp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457200"/>
            <a:ext cx="67820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IDAHO POTATO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91120" y="4800600"/>
            <a:ext cx="2579400" cy="139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5880" y="3733920"/>
            <a:ext cx="1795680" cy="142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81480" y="1828800"/>
            <a:ext cx="152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1560" cy="419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52680" y="4724280"/>
            <a:ext cx="30481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, mit,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Idaho Pota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burbank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potatoes we wouldn’t have fries chips or other potato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; Idaho Po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called the Russet Burbank potato before Idah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ade between potatoes and native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ed Ireland from its potato b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; Luther Bur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was 21 he bought 17 acres of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ross bred potatoes and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de a book called how plants are treated to work for 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nly had a  elementary school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on 1841 and died on 192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de tons of other potatoes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4:14Z</dcterms:created>
  <dc:creator>install</dc:creator>
  <dc:description/>
  <dc:language>en-US</dc:language>
  <cp:lastModifiedBy>install</cp:lastModifiedBy>
  <dcterms:modified xsi:type="dcterms:W3CDTF">2011-01-14T16:59:38Z</dcterms:modified>
  <cp:revision>10</cp:revision>
  <dc:subject/>
  <dc:title>Slide 1</dc:title>
</cp:coreProperties>
</file>